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697F-B404-438D-B510-D496F5C3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7913-0FDF-4041-BC61-B70B2977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93E6-7C0C-4931-BD4D-5D49B1FB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CC32-4266-4C38-B4D1-850FF442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23B4-26DE-42FE-ACAE-DE1F56E9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B98D-BE07-4D02-84CE-871E6753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E324-81AC-46C1-839A-DDAFED64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7D2F-B338-4BB5-9299-9A7D4367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A2FB-86A6-4377-9ACD-0A71D034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DA82-804D-472F-9EAE-DC6AA438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4FAF-1F5F-488B-8791-A1DAA4A8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C601-140F-47FD-9482-89FF15E2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8EE1-ED5B-41C3-A0F4-09E114C04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95 Deti Božie, vďačne, svor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uč nás vždy verne slúž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vzájom sa milo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každý z nás vždy túž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tebe blížnych privádza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ti Božie, vďačne, svor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loňme hlavy, kolená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chvále, prosb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ia spo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svoj ľud rád požehn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Údami sme jeho tel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je Hlava, vedie nás;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slavujme Spasiteľ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bajme len na jeho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e dnes opäť chce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mluvu s Pánom obnov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yseľ, srdce dať si smie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krvou očist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vieru a lásku čist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priateľ keď útoč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jdeme vždy pomoc ist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Ježišovom náruč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ždý ako Boží sluh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č sa blížnych milo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rániť, podopierať druh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tový zaň život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ľaď na Pána, ktorý za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mrieť na kríž z lásky ši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o on, tak všade šír j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svet ho poznať sm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ou láskou obdar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mocni, zjednoť Boží ľu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v nás lásky oheň pla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sloboď nás z hriechu pú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2T12:24:39Z</dcterms:modified>
  <cp:revision>20</cp:revision>
  <dc:subject/>
  <dc:title>Je veľký náš Pán, on slávy je Kráľ Nech do všetkých strán  spev vrúcnych znie chvál.</dc:title>
</cp:coreProperties>
</file>